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7F1-5A6F-4B6E-96CE-045FE7F8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0BE-28F3-491E-B228-11F2F43E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2AF-AFAA-4865-A084-D4AD314D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29D-911E-4F52-8107-1875D8DF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093-4DE4-4424-AD8D-90E6F51B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69D-270A-4EBE-9067-87DB63A6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F9C-F5DE-4222-91E2-B8541DDA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D9D-76C6-433E-A7D2-F7A7502B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92C-5DB2-489E-9166-1F60B038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7EA-54FB-466B-8843-DAFDA8FD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CED-4F1C-4C5A-8067-1E75CE53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CEA-3D60-40EE-B435-57B9C30E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ED15-4E7F-4997-AA35-D113F97BA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LOCAL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y of Lanarksh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Lanarksh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arkshire is a county in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gow is in Lanarksh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ive in Glasg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2022480"/>
            <a:ext cx="40384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Scot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arkshire is in the South East of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gow is in the North of Lanarksh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gow belongs to Lanarksh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2905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Great Bri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Great Bri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land is in the North of Great Bri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land has many different cou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se counties is Lanarksh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gow belongs to Lanarksh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79800" y="1557360"/>
            <a:ext cx="357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eat Britai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is in Europe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, in the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tland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is in the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North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asgow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71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The Glo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Europe is one of the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continents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eat Britai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i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tland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country in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asgow is in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788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our local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local area 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* Our village 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* Our village is in the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of El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la d’Urg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4859280" cy="482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227640" y="4149720"/>
            <a:ext cx="360360" cy="289080"/>
          </a:xfrm>
          <a:custGeom>
            <a:avLst/>
            <a:gdLst>
              <a:gd name="textAreaLeft" fmla="*/ 82080 w 360360"/>
              <a:gd name="textAreaRight" fmla="*/ 278280 w 360360"/>
              <a:gd name="textAreaTop" fmla="*/ 65880 h 289080"/>
              <a:gd name="textAreaBottom" fmla="*/ 22320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Lle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is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local area 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El Pla d’Urgell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located in the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of Lle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village belongs to El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Pla d’Urg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39236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Catalo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is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Lleida is i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f Catal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El Pla d’Urgell is in the centre of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village belongs to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572000" cy="461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atalonia 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of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pain has many different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ne of 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areas i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village is i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4716360" cy="37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Map of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pain is in Europe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, in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atalonia is in the 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f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ur village is in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71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The Glo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Europe is one of the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......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pain is i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atalonia is a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Autonomous Community i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ur village is i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788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ES IN SCOT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counties in Scot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land has many different cou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arkshire is a county in Sco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1895400"/>
            <a:ext cx="40384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4:26:52Z</dcterms:created>
  <dc:creator>Glasgow Secondary Schools</dc:creator>
  <dc:description/>
  <dc:language>en-US</dc:language>
  <cp:lastModifiedBy>Glasgow Secondary Schools</cp:lastModifiedBy>
  <dcterms:modified xsi:type="dcterms:W3CDTF">2009-02-04T10:17:49Z</dcterms:modified>
  <cp:revision>13</cp:revision>
  <dc:subject/>
  <dc:title>OUR LOCAL AREA OUR COUNTY</dc:title>
</cp:coreProperties>
</file>